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B91E-7C52-40DF-A4C8-4BD8ABB5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18A7-08F3-4304-9C6E-2E4F26C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FB09-6C9A-4C74-9F9A-9EA5F379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F822-F7F2-4B61-906E-9511D4F8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0778B-D457-4B51-8675-4E5084AA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CB365-77A0-4A8B-A534-E64D3A7F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13875-96AE-4A17-8CB5-90E6E444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854A4-D094-4342-A702-A39942F7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DD1B-BA9B-44C5-A763-21169E3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D9276-1B49-42C2-87EA-9671B8CE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DFC4F-7DA9-44AE-8B04-F782C8B9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86B3-1B1A-43AA-9E19-FD17460C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4A199-348A-4F7A-9B3C-A57E62A3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9BCB-CB2F-4668-88F0-9200ECC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E332F-A44B-405E-B824-0D7CDD5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291EC-CD80-4EB1-918C-4D35A37E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44377-F44C-4843-BAEC-D5A63FA2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93B7-4B89-4628-8414-8B28FF53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C820-804D-40AF-8CF4-890BD5CB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A66D-3C74-4756-A700-DC7539D2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8DC7-74E3-4891-8787-F8137A38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2F8C-8C11-40F0-AAE5-3BE8DE85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F303-95DF-466F-A25C-7263352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831A-836F-492F-AF76-4B07078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7d"/>
                </a:solidFill>
                <a:latin typeface="Arial Black"/>
                <a:ea typeface="方正隶书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 Black"/>
                <a:ea typeface="方正隶书简体"/>
              </a:rPr>
              <a:t>中小衔接家长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0" y="6380280"/>
            <a:ext cx="212400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A06-B3E4-4711-BA2A-D77CB6F53D0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3059280" cy="765000"/>
            <a:chOff x="0" y="0"/>
            <a:chExt cx="3059280" cy="7650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059280" cy="76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PlaceHolder 4"/>
            <p:cNvSpPr>
              <a:spLocks noGrp="1"/>
            </p:cNvSpPr>
            <p:nvPr>
              <p:ph type="dt" idx="6"/>
            </p:nvPr>
          </p:nvSpPr>
          <p:spPr>
            <a:xfrm>
              <a:off x="0" y="0"/>
              <a:ext cx="3059280" cy="76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image" Target="../media/image7.jpeg"/><Relationship Id="rId4" Type="http://schemas.openxmlformats.org/officeDocument/2006/relationships/slide" Target="slide8.xml"/><Relationship Id="rId5" Type="http://schemas.openxmlformats.org/officeDocument/2006/relationships/image" Target="../media/image8.jpeg"/><Relationship Id="rId6" Type="http://schemas.openxmlformats.org/officeDocument/2006/relationships/slide" Target="slide10.xml"/><Relationship Id="rId7" Type="http://schemas.openxmlformats.org/officeDocument/2006/relationships/image" Target="../media/image9.jpeg"/><Relationship Id="rId8" Type="http://schemas.openxmlformats.org/officeDocument/2006/relationships/slide" Target="slide11.xml"/><Relationship Id="rId9" Type="http://schemas.openxmlformats.org/officeDocument/2006/relationships/image" Target="../media/image10.jpeg"/><Relationship Id="rId10" Type="http://schemas.openxmlformats.org/officeDocument/2006/relationships/slide" Target="slide12.xml"/><Relationship Id="rId11" Type="http://schemas.openxmlformats.org/officeDocument/2006/relationships/image" Target="../media/image11.jpeg"/><Relationship Id="rId12" Type="http://schemas.openxmlformats.org/officeDocument/2006/relationships/slide" Target="slide13.xml"/><Relationship Id="rId13" Type="http://schemas.openxmlformats.org/officeDocument/2006/relationships/image" Target="../media/image12.png"/><Relationship Id="rId14" Type="http://schemas.openxmlformats.org/officeDocument/2006/relationships/slide" Target="slide14.xml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580000" y="508464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七年级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3320" y="6076800"/>
            <a:ext cx="27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cc"/>
                </a:solidFill>
                <a:latin typeface="Arial"/>
              </a:rPr>
              <a:t>授课人</a:t>
            </a:r>
            <a:r>
              <a:rPr b="0" lang="zh-CN" sz="3200" spc="-1" strike="noStrike">
                <a:solidFill>
                  <a:srgbClr val="9999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济南明湖中学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刘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3280" y="765000"/>
            <a:ext cx="385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马上一面欣赏土坎边的</a:t>
            </a: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粉蓝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报春花，在轻和微风里不住</a:t>
            </a: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点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总令人疑心那蓝色竟象是有意</a:t>
            </a: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摹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空而成的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40360" y="1557360"/>
            <a:ext cx="38336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84720" y="1521000"/>
            <a:ext cx="3745080" cy="3960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514836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时面前三五步路旁边，忽然出现个花茸茸的戴胜鸟，矗起头顶花冠，瞪着个油亮亮的眼睛，好像对于唱歌也发生了兴趣，经赶马女孩子一喝，才扑着翅膀掠地飞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19640" y="1808280"/>
            <a:ext cx="13338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996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698400"/>
            <a:ext cx="60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有意思的是云雀，时常从面前不远草丛中起飞，一面扶摇盘旋而上，一面不住唱歌，向碧蓝天空中钻去，仿佛要一直钻透蓝空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又像个小流星一样，用极快速度下坠到草丛中，和其他同伴会合，于是另外几只云雀又接着起飞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19447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404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伙儿唱得最热闹的叫“金满斗会”。有一次，由村子里人发起，到时候住处院子两楼和那道长长屋廊下，集合了乡村男女老幼百多人，六人围坐一桌，足足坐满了三十来张矮方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24440" y="0"/>
            <a:ext cx="278928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400536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762120"/>
            <a:ext cx="368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场年老人格外兴奋活跃，经常每桌轮流走动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中最当行出色的是一个吹鼓手，年纪已过七十，牙齿早脱光了，却能十分热情整本整套地唱下去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184720" y="1413000"/>
            <a:ext cx="32036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63640" y="3645000"/>
            <a:ext cx="19479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1476360" y="377352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绘人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1484280"/>
            <a:ext cx="1440" cy="14619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365440" y="3573360"/>
            <a:ext cx="1942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5437080" y="3573360"/>
            <a:ext cx="24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重写场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076360" y="4365720"/>
            <a:ext cx="1150920" cy="1295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43280" y="4365720"/>
            <a:ext cx="1441440" cy="1295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2925720"/>
            <a:ext cx="1584360" cy="151308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41440" y="3068640"/>
            <a:ext cx="360360" cy="86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038480" y="3200400"/>
            <a:ext cx="86364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歌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3139920"/>
            <a:ext cx="1008000" cy="93528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山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04640"/>
            <a:ext cx="1008000" cy="93528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山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81800" y="3068640"/>
            <a:ext cx="1150920" cy="93672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村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6229440" y="5445000"/>
            <a:ext cx="1222200" cy="93672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沈从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1692360" y="5662440"/>
            <a:ext cx="1293840" cy="93528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1440" y="28526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3514680" y="18334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5797440" y="2781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3098400">
            <a:off x="5561640" y="456228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8700200">
            <a:off x="2910240" y="43506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78080" y="907920"/>
            <a:ext cx="103356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画环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926800">
            <a:off x="4272120" y="5091480"/>
            <a:ext cx="26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民风民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8944400">
            <a:off x="2411640" y="4997160"/>
            <a:ext cx="26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、生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7280" y="40464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法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72360" cy="6130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51280" y="2421000"/>
            <a:ext cx="446400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1000c"/>
                </a:solidFill>
                <a:latin typeface="华文隶书"/>
                <a:ea typeface="华文隶书"/>
              </a:rPr>
              <a:t>从马背上研究老问题，不免近于卖呆，远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如从</a:t>
            </a:r>
            <a:r>
              <a:rPr b="1" lang="zh-CN" sz="3600" spc="-1" strike="noStrike">
                <a:solidFill>
                  <a:srgbClr val="ff3300"/>
                </a:solidFill>
                <a:latin typeface="华文隶书"/>
                <a:ea typeface="华文隶书"/>
              </a:rPr>
              <a:t>活人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听听</a:t>
            </a:r>
            <a:r>
              <a:rPr b="1" lang="zh-CN" sz="3600" spc="-1" strike="noStrike">
                <a:solidFill>
                  <a:srgbClr val="ff3300"/>
                </a:solidFill>
                <a:latin typeface="华文隶书"/>
                <a:ea typeface="华文隶书"/>
              </a:rPr>
              <a:t>生命的颂歌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为有意思</a:t>
            </a:r>
            <a:r>
              <a:rPr b="1" lang="zh-CN" sz="3600" spc="-1" strike="noStrike">
                <a:solidFill>
                  <a:srgbClr val="01000c"/>
                </a:solidFill>
                <a:latin typeface="华文隶书"/>
                <a:ea typeface="华文隶书"/>
              </a:rPr>
              <a:t>了。</a:t>
            </a:r>
            <a:r>
              <a:rPr b="1" lang="zh-CN" sz="3200" spc="-1" strike="noStrike">
                <a:solidFill>
                  <a:srgbClr val="01000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c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1000c"/>
                </a:solidFill>
                <a:latin typeface="Arial"/>
              </a:rPr>
              <a:t>——</a:t>
            </a:r>
            <a:r>
              <a:rPr b="1" lang="en-US" sz="1800" spc="-1" strike="noStrike">
                <a:solidFill>
                  <a:srgbClr val="01000c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记忆中的云南跑马节</a:t>
            </a:r>
            <a:r>
              <a:rPr b="1" lang="en-US" sz="1800" spc="-1" strike="noStrike">
                <a:solidFill>
                  <a:srgbClr val="01000c"/>
                </a:solidFill>
                <a:latin typeface="Arial"/>
                <a:ea typeface="楷体_GB2312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7142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作者的“意思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200400" y="2514600"/>
          <a:ext cx="594360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59436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31640" y="2374920"/>
            <a:ext cx="82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以“这是多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鲜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生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！你看，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”开头写一段文字，写下你听到的生命的颂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00800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9501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762120"/>
            <a:ext cx="85345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沈从文始终以“乡下人”的视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乡村的民风民情中发掘人性中优美、自然、鲜活的生命形态。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感谢沈从文！是他，让我们回望来路，去拣拾那些本就存活于我们生命中自然鲜活的基因。是他，让我们停下脚步，去体味这些乡野间自在优美的生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0000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24066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0000ff"/>
                </a:solidFill>
                <a:latin typeface="华文彩云"/>
                <a:ea typeface="华文彩云"/>
              </a:rPr>
              <a:t>放慢脚步，去欣赏身边的风景，生活的美景无处不在，只要我们用心去捕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57360"/>
            <a:ext cx="56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送同学们一句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整体感知文章内容，体会云南歌会的特色。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通过朗读品味语言，学习文章生动的描写和巧妙的写作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学会关注生活，感悟生命，欣赏生活中的美好事物。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6000" y="47628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目标导航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72720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1419480" cy="2076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535640" y="3933720"/>
            <a:ext cx="1565280" cy="2270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5759280" y="3645000"/>
            <a:ext cx="1563840" cy="2089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895480" y="2768760"/>
            <a:ext cx="4077000" cy="13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《边城》</a:t>
            </a:r>
            <a:endParaRPr b="1" lang="en-US" sz="8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340000" y="2349360"/>
            <a:ext cx="509580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！</a:t>
            </a:r>
            <a:endParaRPr b="1" lang="en-US" sz="8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195640" y="3249720"/>
            <a:ext cx="50767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38640" y="0"/>
            <a:ext cx="4005360" cy="3270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295280"/>
            <a:ext cx="3124080" cy="8251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65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从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名沈岳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苗族，湖南凤凰人，现代作家、历史文物学家。在散文、小说创作和古代服饰研究方面均取得很大成绩，代表作有长篇小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散文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湘行散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论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古代服饰研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551664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99"/>
                </a:solidFill>
                <a:latin typeface="Arial"/>
              </a:rPr>
              <a:t>星斗其文，赤子其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63640" y="5121360"/>
            <a:ext cx="19479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2744640"/>
            <a:ext cx="1440" cy="1462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27640" y="5084640"/>
            <a:ext cx="194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257720"/>
            <a:ext cx="1584360" cy="151272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41440" y="3068640"/>
            <a:ext cx="360360" cy="86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03640" y="4473720"/>
            <a:ext cx="86364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歌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5" name=""/>
          <p:cNvSpPr/>
          <p:nvPr/>
        </p:nvSpPr>
        <p:spPr>
          <a:xfrm>
            <a:off x="719280" y="4653000"/>
            <a:ext cx="1008000" cy="93492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山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7640" y="1665360"/>
            <a:ext cx="1008360" cy="93492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山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16720" y="4581360"/>
            <a:ext cx="1150920" cy="936720"/>
          </a:xfrm>
          <a:prstGeom prst="ellipse">
            <a:avLst/>
          </a:prstGeom>
          <a:solidFill>
            <a:srgbClr val="ff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村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422100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299736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0" y="4113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7280" y="65736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预习导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51280" y="2421000"/>
            <a:ext cx="446400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1000c"/>
                </a:solidFill>
                <a:latin typeface="华文隶书"/>
                <a:ea typeface="华文隶书"/>
              </a:rPr>
              <a:t>从马背上研究老问题，不免近于卖呆，远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如从活人中听听生命的颂歌为</a:t>
            </a:r>
            <a:r>
              <a:rPr b="1" lang="zh-CN" sz="3600" spc="-1" strike="noStrike">
                <a:solidFill>
                  <a:srgbClr val="ff3300"/>
                </a:solidFill>
                <a:latin typeface="华文隶书"/>
                <a:ea typeface="华文隶书"/>
              </a:rPr>
              <a:t>有意思</a:t>
            </a:r>
            <a:r>
              <a:rPr b="1" lang="zh-CN" sz="3600" spc="-1" strike="noStrike">
                <a:solidFill>
                  <a:srgbClr val="01000c"/>
                </a:solidFill>
                <a:latin typeface="华文隶书"/>
                <a:ea typeface="华文隶书"/>
              </a:rPr>
              <a:t>了。</a:t>
            </a:r>
            <a:r>
              <a:rPr b="1" lang="zh-CN" sz="3200" spc="-1" strike="noStrike">
                <a:solidFill>
                  <a:srgbClr val="01000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c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1000c"/>
                </a:solidFill>
                <a:latin typeface="Arial"/>
              </a:rPr>
              <a:t>——</a:t>
            </a:r>
            <a:r>
              <a:rPr b="1" lang="en-US" sz="1800" spc="-1" strike="noStrike">
                <a:solidFill>
                  <a:srgbClr val="01000c"/>
                </a:solidFill>
                <a:latin typeface="Arial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记忆中的云南跑马节</a:t>
            </a:r>
            <a:r>
              <a:rPr b="1" lang="en-US" sz="1800" spc="-1" strike="noStrike">
                <a:solidFill>
                  <a:srgbClr val="01000c"/>
                </a:solidFill>
                <a:latin typeface="Arial"/>
                <a:ea typeface="楷体_GB2312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72864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发现歌会“有意思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9509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7956720" cy="586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1916280"/>
            <a:ext cx="1079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意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1916280"/>
            <a:ext cx="1079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意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27280" y="1001880"/>
            <a:ext cx="51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品味语言“有意思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2962080"/>
            <a:ext cx="4680000" cy="1191240"/>
          </a:xfrm>
          <a:prstGeom prst="rect">
            <a:avLst/>
          </a:prstGeom>
          <a:noFill/>
          <a:ln w="9360">
            <a:solidFill>
              <a:srgbClr val="01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读文章，把你认为最有意思的内容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细节、字句、写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圈画下来，并在旁边写写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2920" y="5157720"/>
            <a:ext cx="1079280" cy="1146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87280" y="5157720"/>
            <a:ext cx="104472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68360" y="5157720"/>
            <a:ext cx="1079640" cy="118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384720" y="5157720"/>
            <a:ext cx="1116000" cy="1187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35640" y="512136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796000" y="5121360"/>
            <a:ext cx="1187280" cy="1224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020000" y="5121360"/>
            <a:ext cx="1233360" cy="1260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0" y="22536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堂点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31640" y="685800"/>
            <a:ext cx="79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次听到一个年轻妇女一连唱败了三个对手，逼得对方哑口无言，于是轻轻地打了个吆喝，表示胜利结束，从荆条丛中站起身子，理理发，拍拍绣花围裙上的灰土，向大家笑笑，意思像是说，“你们看，我唱赢了”，显得轻松快乐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9578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0" y="68580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情开朗活泼，劳动手脚勤快，生长得一张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黑中透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枣子脸，满口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白白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糯米牙，穿了身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毛蓝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裤，腰间围个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钉满小银片扣花葱绿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裙，脚下穿双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云南乡下特有的绣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孔鞋，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油光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辫发盘在头上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2997360"/>
            <a:ext cx="22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87280" y="692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19280" y="1484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翠翠在风日里长养着，把皮肤变得黑黑的，触目为青山绿水，一对眸子清明如水晶。自然既长养她且教育她，为人天真活泼，处处俨然如一只小兽物。人又那么乖，如山头黄麂一样，从不想到残忍事情，从不发愁，从不动气。（沈从文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边城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92000" y="822240"/>
          <a:ext cx="7380000" cy="4730400"/>
        </p:xfrm>
        <a:graphic>
          <a:graphicData uri="http://schemas.openxmlformats.org/drawingml/2006/table">
            <a:tbl>
              <a:tblPr/>
              <a:tblGrid>
                <a:gridCol w="7380000"/>
              </a:tblGrid>
              <a:tr h="47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 txBox="1"/>
          <p:nvPr/>
        </p:nvSpPr>
        <p:spPr>
          <a:xfrm>
            <a:off x="287280" y="54936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巩固拓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6:19:42Z</dcterms:created>
  <dc:creator>联想（北京）有限公司</dc:creator>
  <dc:description/>
  <cp:keywords/>
  <dc:language>en-US</dc:language>
  <cp:lastModifiedBy>User</cp:lastModifiedBy>
  <dcterms:modified xsi:type="dcterms:W3CDTF">2015-03-22T01:16:36Z</dcterms:modified>
  <cp:revision>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