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E6C1-1E6D-428B-A8D8-AC3A8E0E3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3818-C1E1-4892-9B56-95FB15EB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11A4-8AA3-4CF7-A445-925BB408F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DAA6-4494-4BAE-800B-B8B890CDE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C3FD-D34B-4770-A9F5-0D311A73C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1E880-5A62-4609-8D9D-99F83081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0DF6-4A4F-4D54-B24A-3E5514E4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8177-C129-4B0F-BAF4-2E05A31F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4FC1-5E0D-4783-98B1-E905B699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D49F-B59E-4199-B50C-4A25C10D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CEE1-0B9A-4267-80EE-7FCDCB61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6D96-7E6F-4B44-A31A-49364F04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7019-7697-4B1D-852E-F89AABFA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1D11-B8EC-40D8-AB53-D86F67A7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6595-AEE3-40D6-941E-1146764F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DD52-B5DD-4D81-89A3-D2E7D775F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2903-1E93-4C73-B9AC-CA0491788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D7EB-FF6C-490C-934D-82CF2778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E058-BC21-4FD8-8645-34CF7053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7964-058E-4858-92F1-EAAB5CD6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1579-FC5C-482C-B433-CCEE0A60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F8EA-4990-46E8-B5B1-4BF0BC4E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6EEA-5964-4027-A95A-F046A352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82AA-5DC3-45A7-8BB7-AA45B230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Freeform 149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Freeform 163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Freeform 177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Freeform 191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Freeform 205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Freeform 219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>
                <a:gd name="textAreaLeft" fmla="*/ 0 w 2102760"/>
                <a:gd name="textAreaRight" fmla="*/ 2103120 w 2102760"/>
                <a:gd name="textAreaTop" fmla="*/ 0 h 1914120"/>
                <a:gd name="textAreaBottom" fmla="*/ 1914480 h 1914120"/>
              </a:gdLst>
              <a:ahLst/>
              <a:rect l="textAreaLeft" t="textAreaTop" r="textAreaRight" b="textAreaBottom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>
                  <a:gd name="textAreaLeft" fmla="*/ 0 w 2317680"/>
                  <a:gd name="textAreaRight" fmla="*/ 2318040 w 2317680"/>
                  <a:gd name="textAreaTop" fmla="*/ 0 h 2057040"/>
                  <a:gd name="textAreaBottom" fmla="*/ 2057400 h 2057040"/>
                </a:gdLst>
                <a:ahLst/>
                <a:rect l="textAreaLeft" t="textAreaTop" r="textAreaRight" b="textAreaBottom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>
                  <a:gd name="textAreaLeft" fmla="*/ 0 w 186120"/>
                  <a:gd name="textAreaRight" fmla="*/ 186480 w 18612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>
                  <a:gd name="textAreaLeft" fmla="*/ 0 w 163080"/>
                  <a:gd name="textAreaRight" fmla="*/ 163080 w 163080"/>
                  <a:gd name="textAreaTop" fmla="*/ 0 h 288720"/>
                  <a:gd name="textAreaBottom" fmla="*/ 289080 h 288720"/>
                </a:gdLst>
                <a:ahLst/>
                <a:rect l="textAreaLeft" t="textAreaTop" r="textAreaRight" b="textAreaBottom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242280"/>
                  <a:gd name="textAreaBottom" fmla="*/ 242640 h 242280"/>
                </a:gdLst>
                <a:ahLst/>
                <a:rect l="textAreaLeft" t="textAreaTop" r="textAreaRight" b="textAreaBottom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392400"/>
                  <a:gd name="textAreaBottom" fmla="*/ 392760 h 392400"/>
                </a:gdLst>
                <a:ahLst/>
                <a:rect l="textAreaLeft" t="textAreaTop" r="textAreaRight" b="textAreaBottom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>
                  <a:gd name="textAreaLeft" fmla="*/ 0 w 392400"/>
                  <a:gd name="textAreaRight" fmla="*/ 392760 w 39240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0 h 180360"/>
                  <a:gd name="textAreaBottom" fmla="*/ 180360 h 180360"/>
                </a:gdLst>
                <a:ahLst/>
                <a:rect l="textAreaLeft" t="textAreaTop" r="textAreaRight" b="textAreaBottom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>
                  <a:gd name="textAreaLeft" fmla="*/ 0 w 325080"/>
                  <a:gd name="textAreaRight" fmla="*/ 325080 w 32508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>
                  <a:gd name="textAreaLeft" fmla="*/ 0 w 546840"/>
                  <a:gd name="textAreaRight" fmla="*/ 547200 w 54684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>
                  <a:gd name="textAreaLeft" fmla="*/ 0 w 443880"/>
                  <a:gd name="textAreaRight" fmla="*/ 444240 w 44388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>
                  <a:gd name="textAreaLeft" fmla="*/ 0 w 455040"/>
                  <a:gd name="textAreaRight" fmla="*/ 455400 w 455040"/>
                  <a:gd name="textAreaTop" fmla="*/ 0 h 365400"/>
                  <a:gd name="textAreaBottom" fmla="*/ 365760 h 365400"/>
                </a:gdLst>
                <a:ahLst/>
                <a:rect l="textAreaLeft" t="textAreaTop" r="textAreaRight" b="textAreaBottom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>
                  <a:gd name="textAreaLeft" fmla="*/ 0 w 257760"/>
                  <a:gd name="textAreaRight" fmla="*/ 258120 w 2577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610D-D164-4C6F-950D-27B1DE6C8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>
              <a:gd name="textAreaLeft" fmla="*/ 0 w 4438440"/>
              <a:gd name="textAreaRight" fmla="*/ 4438800 w 4438440"/>
              <a:gd name="textAreaTop" fmla="*/ 0 h 4038840"/>
              <a:gd name="textAreaBottom" fmla="*/ 4039200 h 4038840"/>
            </a:gdLst>
            <a:ahLst/>
            <a:rect l="textAreaLeft" t="textAreaTop" r="textAreaRight" b="textAreaBottom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>
                <a:gd name="textAreaLeft" fmla="*/ 0 w 787680"/>
                <a:gd name="textAreaRight" fmla="*/ 788040 w 787680"/>
                <a:gd name="textAreaTop" fmla="*/ 0 h 300600"/>
                <a:gd name="textAreaBottom" fmla="*/ 300600 h 300600"/>
              </a:gdLst>
              <a:ahLst/>
              <a:rect l="textAreaLeft" t="textAreaTop" r="textAreaRight" b="textAreaBottom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>
                <a:gd name="textAreaLeft" fmla="*/ 0 w 4755960"/>
                <a:gd name="textAreaRight" fmla="*/ 4756320 w 4755960"/>
                <a:gd name="textAreaTop" fmla="*/ 0 h 4338360"/>
                <a:gd name="textAreaBottom" fmla="*/ 4338720 h 4338360"/>
              </a:gdLst>
              <a:ahLst/>
              <a:rect l="textAreaLeft" t="textAreaTop" r="textAreaRight" b="textAreaBottom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454680"/>
                <a:gd name="textAreaBottom" fmla="*/ 455040 h 454680"/>
              </a:gdLst>
              <a:ahLst/>
              <a:rect l="textAreaLeft" t="textAreaTop" r="textAreaRight" b="textAreaBottom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>
                <a:gd name="textAreaLeft" fmla="*/ 0 w 334440"/>
                <a:gd name="textAreaRight" fmla="*/ 334800 w 33444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8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>
                <a:gd name="textAreaLeft" fmla="*/ 0 w 1097640"/>
                <a:gd name="textAreaRight" fmla="*/ 1098000 w 10976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9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>
                <a:gd name="textAreaLeft" fmla="*/ 0 w 787680"/>
                <a:gd name="textAreaRight" fmla="*/ 788040 w 787680"/>
                <a:gd name="textAreaTop" fmla="*/ 0 h 827640"/>
                <a:gd name="textAreaBottom" fmla="*/ 828000 h 827640"/>
              </a:gdLst>
              <a:ahLst/>
              <a:rect l="textAreaLeft" t="textAreaTop" r="textAreaRight" b="textAreaBottom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>
                <a:gd name="textAreaLeft" fmla="*/ 0 w 805680"/>
                <a:gd name="textAreaRight" fmla="*/ 806040 w 8056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>
                <a:gd name="textAreaLeft" fmla="*/ 0 w 618840"/>
                <a:gd name="textAreaRight" fmla="*/ 619200 w 6188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>
                <a:gd name="textAreaLeft" fmla="*/ 0 w 667080"/>
                <a:gd name="textAreaRight" fmla="*/ 667440 w 667080"/>
                <a:gd name="textAreaTop" fmla="*/ 0 h 300600"/>
                <a:gd name="textAreaBottom" fmla="*/ 300600 h 300600"/>
              </a:gdLst>
              <a:ahLst/>
              <a:rect l="textAreaLeft" t="textAreaTop" r="textAreaRight" b="textAreaBottom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>
                <a:gd name="textAreaLeft" fmla="*/ 0 w 1122120"/>
                <a:gd name="textAreaRight" fmla="*/ 1122480 w 112212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>
                <a:gd name="textAreaLeft" fmla="*/ 0 w 911520"/>
                <a:gd name="textAreaRight" fmla="*/ 911880 w 9115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>
                <a:gd name="textAreaLeft" fmla="*/ 0 w 933840"/>
                <a:gd name="textAreaRight" fmla="*/ 934200 w 933840"/>
                <a:gd name="textAreaTop" fmla="*/ 0 h 771120"/>
                <a:gd name="textAreaBottom" fmla="*/ 771480 h 771120"/>
              </a:gdLst>
              <a:ahLst/>
              <a:rect l="textAreaLeft" t="textAreaTop" r="textAreaRight" b="textAreaBottom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>
                <a:gd name="textAreaLeft" fmla="*/ 0 w 528840"/>
                <a:gd name="textAreaRight" fmla="*/ 529200 w 528840"/>
                <a:gd name="textAreaTop" fmla="*/ 0 h 1372680"/>
                <a:gd name="textAreaBottom" fmla="*/ 1373040 h 1372680"/>
              </a:gdLst>
              <a:ahLst/>
              <a:rect l="textAreaLeft" t="textAreaTop" r="textAreaRight" b="textAreaBottom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>
                <a:gd name="textAreaLeft" fmla="*/ 0 w 1685880"/>
                <a:gd name="textAreaRight" fmla="*/ 1686240 w 1685880"/>
                <a:gd name="textAreaTop" fmla="*/ 0 h 1549440"/>
                <a:gd name="textAreaBottom" fmla="*/ 1549800 h 15494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>
                <a:gd name="textAreaLeft" fmla="*/ 0 w 217800"/>
                <a:gd name="textAreaRight" fmla="*/ 218160 w 2178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3B41-448F-493C-9122-F6EC1F96E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40000"/>
                </a:solidFill>
                <a:latin typeface="Arial"/>
                <a:ea typeface="华文行楷"/>
              </a:rPr>
              <a:t>带着梦想上路</a:t>
            </a:r>
            <a:endParaRPr b="0" lang="en-US" sz="6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371600" y="3933720"/>
            <a:ext cx="64008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海市甘泉外国语中学    付丽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4" descr="u=3494420271,2972492106&amp;fm=19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6" name="Text Box 5"/>
          <p:cNvSpPr/>
          <p:nvPr/>
        </p:nvSpPr>
        <p:spPr>
          <a:xfrm>
            <a:off x="1116000" y="1700280"/>
            <a:ext cx="561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行楷"/>
              </a:rPr>
              <a:t>带着梦想上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6"/>
          <p:cNvSpPr/>
          <p:nvPr/>
        </p:nvSpPr>
        <p:spPr>
          <a:xfrm>
            <a:off x="755640" y="4076640"/>
            <a:ext cx="7201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上海市甘泉外国语中学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付丽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华文行楷"/>
              </a:rPr>
              <a:t>家庭教育指导的秘籍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09120" y="1412640"/>
            <a:ext cx="81536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问题学生背后的问题家庭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走出家庭文化基因复制的阴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给落后生家长足够的尊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友好沟通的基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专业赢得信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面对高知家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成为家庭的朋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持久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华文行楷"/>
              </a:rPr>
              <a:t>个案研究与跟踪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557360"/>
            <a:ext cx="8153640" cy="45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给每个孩子建立成长档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研究成长的规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做孩子成长中最重要的他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别怕，老师和你在一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华文行楷"/>
              </a:rPr>
              <a:t>你准备好了吗？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专家给出的合格班主任的公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师爱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师德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教育智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教育方法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研究能力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合格的班主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华文行楷"/>
              </a:rPr>
              <a:t>提高班主任基本功之我见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向书本学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肯钻研，理论积累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向老教师学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肯请教，经验积累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向年轻教师学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肯进步，与时俱进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向学生学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肯创新，以人为本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班主任工作日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肯反思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案例梳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肯研究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家校互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肯探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华文行楷"/>
              </a:rPr>
              <a:t>我的追求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153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lnSpc>
                <a:spcPct val="80000"/>
              </a:lnSpc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做有内涵的班主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向生活、向实践学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做有特色的班主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发挥优势，形成自己的风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做学者型的班主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注重理论学习，增强底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做智慧型的班主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从容淡定面对复杂情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224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华文行楷"/>
              </a:rPr>
              <a:t>我眼中班主任的研究对象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研究学生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案研究、规律研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研究家长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案研究、分类研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研究不同学段学生学习生活特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研究不同时期校园文化的趋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研究对教育的要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华文行楷"/>
              </a:rPr>
              <a:t>我的收获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改变别人从改变自己做起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班主任性格决定了你的管理风格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管理风格影响着班级文化的发展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每一个错误或许都是孩子成长的契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要害怕学生犯错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好老师与好妈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华文行楷"/>
              </a:rPr>
              <a:t>我的成长故事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遭遇家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研究家庭教育的好契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生重复犯错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案研究的价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工作、生活压力来袭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班主任的幸福感从何而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面对职业倦怠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班主任专业化的方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华文行楷"/>
              </a:rPr>
              <a:t>我的感悟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或许你可以影响孩子很多年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坚持与创新是永恒的主题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没有爱就没有教育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教育人生可以是美丽人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华文行楷"/>
              </a:rPr>
              <a:t>我的心得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要对家长发火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多一个目标一致的人是一件好事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批评学生的艺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按常理出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走在学校的要求前面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反正都要做事，先做的叫创新，后做的叫应付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主管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师生双赢的艺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98440" y="549000"/>
            <a:ext cx="85406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华文行楷"/>
              </a:rPr>
              <a:t>班集体建设的故事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483920"/>
            <a:ext cx="815364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军训的小故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外事接待的插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寻找回来的笑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们家很温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华文行楷"/>
              </a:rPr>
              <a:t>班集体建设的秘籍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15364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每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班级管理制度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让每个孩子体会成功和学会分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班级干部梯队培养模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的未来不是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双课代表制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让潜力股升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外活动、美丽成长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效益最大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华文行楷"/>
              </a:rPr>
              <a:t>班级文化建设的故事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所有的都是最棒的，除了体育成绩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运动会的故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爱可以传递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高考前的祝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华文行楷"/>
              </a:rPr>
              <a:t>班级文化建设的秘籍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341360"/>
            <a:ext cx="8153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系列班会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班主任的角色定位（倾听者、引领者、合作者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中升华情感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每朵花都有盛开的理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给自己写传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会记录成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寻找身边的感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眼中，你最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华文行楷"/>
              </a:rPr>
              <a:t>家庭教育指导的故事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寻找回来的春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打不通的电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的痛我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06:28:58Z</dcterms:created>
  <dc:creator>flm</dc:creator>
  <dc:description/>
  <dc:language>en-US</dc:language>
  <cp:lastModifiedBy>Administrator</cp:lastModifiedBy>
  <dcterms:modified xsi:type="dcterms:W3CDTF">2013-03-26T06:40:40Z</dcterms:modified>
  <cp:revision>35</cp:revision>
  <dc:subject/>
  <dc:title>带着梦想上路</dc:title>
</cp:coreProperties>
</file>